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887E-C4FE-4B55-843D-6A4F5F99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D43D-4649-468B-9D55-B4F77F8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4AC6-32B6-4966-82DD-BA359598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3BB5-FD14-4B64-AAA3-73CD1883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8ACE-614D-48E4-BFFB-9F2308D5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0D17-5ED1-406A-B9E2-C1E0C6C5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356-766E-4668-88BE-F154D281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1B2F-A7C8-461C-A6D8-D8931BEA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FFBC-036D-4F2C-859A-BF4829F6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CA38-D25B-4190-B344-94C1198A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52B0-3CDB-4501-96CD-4043819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5055-7E16-4A2B-82C1-05CF038B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21AF-5646-47CC-81B5-2379002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338-D87E-401C-B25C-0AEC971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F47D-0CF5-464C-8602-09A2AA13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7BEC-32AE-4B68-9187-4DE2D87E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D56-42C3-41A8-917D-9C70A34B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5C05-D48D-49AE-8AA5-0C2833F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FE29-3E5C-4361-B1B6-D683E18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F270-A15A-473C-A261-9AF4E063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52D0-96C0-422F-B80C-DB6AB36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0919-8437-40C0-B42F-548BDED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69AE-7CE2-4347-B7B5-3F6C71CA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4B79-0D37-4B64-BAD1-C074E1DB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D270-DC27-4482-BFAB-914E3F5B64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BC0-6657-4CFF-A05A-C440C78C5E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 The Days of the Judges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#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3:7 – 5: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61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ick 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ly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niel – and Cushan-rishathaim of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hud – and the Moabites, Ammonites, &amp; Amalek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mgar – and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orah – and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g of Debo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95680" y="0"/>
            <a:ext cx="46483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3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s left to try Israel, v. 1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he people provoked the Lord, v. 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erves the king of Mesopotamia (Cushan-rishathaim) for eight years, v.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niel raised as their delive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s the king of Mesopota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vers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enjoys peace for forty years, v. 9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0"/>
            <a:ext cx="464832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ins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 of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ab attacked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laved them for 18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ed to the Lord, v. 12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hud kills Eglon, king of Mo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ys ten thousand Moa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rests 80 years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5-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mgar delivers Israel from the Philistines, v. 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4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ites again rebel against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 into the hands of Jabin, king of Canaan, v.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81080" y="1066680"/>
            <a:ext cx="236232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371240" y="2362320"/>
            <a:ext cx="304812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19160" y="3733560"/>
            <a:ext cx="16002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95680" y="152280"/>
            <a:ext cx="4648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ried unto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raised up Deborah and Barak to deliver them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3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ber the Kenite, v.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ak attacked Jabin’s army at the Kisho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army totally destroye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2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era, captain of Jabin's army esca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ed the tent of Jael, the wife of He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lled by a woman while hiding, v. 17-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990360" y="2743200"/>
            <a:ext cx="32763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ictory Song of Deborah And Bar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5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It begins with praise to God. v. 2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substance of this song transmits the memory of this great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t Ends With A Prayer. V.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76720" y="228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286000"/>
            <a:ext cx="198108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opota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19320" y="1981080"/>
            <a:ext cx="3808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05740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3809880"/>
            <a:ext cx="6858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837720" y="403812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80880" y="25146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286000"/>
            <a:ext cx="22860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514600"/>
            <a:ext cx="167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ab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monit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lek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is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657600"/>
            <a:ext cx="114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hu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257440" y="3962520"/>
            <a:ext cx="6094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209680"/>
            <a:ext cx="1752840" cy="1676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aan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borah &amp; B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4952880"/>
            <a:ext cx="281952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was “after” Ehud in noteworthiness, but during 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ming up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 vs. Midia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3:23:46Z</dcterms:created>
  <dc:creator>Terry W. Benton</dc:creator>
  <dc:description/>
  <dc:language>en-US</dc:language>
  <cp:lastModifiedBy>Frank D Vines</cp:lastModifiedBy>
  <dcterms:modified xsi:type="dcterms:W3CDTF">2005-02-06T14:09:31Z</dcterms:modified>
  <cp:revision>13</cp:revision>
  <dc:subject/>
  <dc:title>In The Days of the Jud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